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media/laser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3D0-7E30-41C3-9C52-E8A54E0C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2CF-EC73-4D38-A163-74B80B10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858-F4F4-436D-9144-9C8508BB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D34-49E4-4C09-A6C1-59E30831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DDC-7627-41F2-9C26-858FD371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F11-037F-4A00-923A-FADC0AD2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11F-384E-45EC-8D23-2775351B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862-A516-486B-B1AD-46C58348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99B-9A07-49C9-805E-9D3244DE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94D-DFF1-4070-820D-CAEA8F81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340-ECE1-47BA-BAA5-3C0CC379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F5E-A08F-476E-8D99-368BC4E6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32E-5C75-4A32-B0BC-CFF1714CD6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意疑问句和推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7773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+,-- ? She’s  afraid of dogs, 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答时否定用简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语必须为人称代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, + ?  Bill daren’t say such rude things,     dare 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 Yes, he dare. /  No, he dar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敢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不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She can’t be in the library, i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I saw her on the play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事实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ave d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om must have returned the book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dnesday, did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y     /,                         ha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2997360"/>
            <a:ext cx="71280" cy="8632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501336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Mike can’t have finished his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y before yesterday, did 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,                                        has he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向反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表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You’ve made a mess of 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I have, have 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I won’t let you go out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You won’t , w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421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80010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’s something worth reading in today’s newspaper, isn’t t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祈使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, +/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me what it is , will /won’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y, you feed the dog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+ ? Don’t be late again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Let’s =let us    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discuss about it ,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=let us   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33560" y="5373720"/>
            <a:ext cx="71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55641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33880" y="44956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go to the cinema tonight , will you, Mu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I wish to go out for the picnic with you today , may 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shes to be on your team, may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not, never, hardly, seldom, scarcely, little, nothing, non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ry has never had a good education, ha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eldom goes out at night , does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happy          unhappy, polite         im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5516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0920" y="566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866920" y="566100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     dislike, careful      ca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very careless in his homework , is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like maths , doe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s maths , doe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You and I discussed this the other 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hopes to join the club ,don’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列句            就近原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76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23640" y="83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76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63640" y="907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2349360"/>
            <a:ext cx="505080" cy="11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609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is American but she speaks Chinese very well, does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brother doesn’t work hard at his lessons but he is fond of computer, isn’t h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从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宾语从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第一人称        同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he isn’t in at the moment, i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非第一人称时          同主句：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told you she was ill that day, did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656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544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语从句              同主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first time you’ve been abroad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What a pleasant day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kind airhostess, isn’t sh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态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have to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须加助动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/w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o go to the dentist’s, d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have to hand in the composition tomorrow, won’t w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’d better      had better           ha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rather      would rather         wouldn’t       + S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692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365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7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4365720"/>
            <a:ext cx="360360" cy="503280"/>
          </a:xfrm>
          <a:custGeom>
            <a:avLst/>
            <a:gdLst>
              <a:gd name="textAreaLeft" fmla="*/ 0 w 360360"/>
              <a:gd name="textAreaRight" fmla="*/ 129960 w 360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better remain here with him, hadn‘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 rather come a little later, would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n’t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d to be a heavy smoker, used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idn’t  you 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3213000"/>
            <a:ext cx="360360" cy="11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9040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ought to                oughtn’t /shouldn’t +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ught to do something for him to overcome the difficulty, oughtn’t /shouldn’t w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n’t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n’t 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ust obey the traffic rules, mustn’t w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ust hand in the homework today, needn’t  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推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去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620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148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2060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433520"/>
            <a:ext cx="144720" cy="627120"/>
          </a:xfrm>
          <a:custGeom>
            <a:avLst/>
            <a:gdLst>
              <a:gd name="textAreaLeft" fmla="*/ 92520 w 144720"/>
              <a:gd name="textAreaRight" fmla="*/ 145080 w 144720"/>
              <a:gd name="textAreaTop" fmla="*/ 16200 h 627120"/>
              <a:gd name="textAreaBottom" fmla="*/ 61092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5080" y="328464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然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测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般事实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he must be at home now,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I gave her a phone call just now and she answere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29242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628640"/>
            <a:ext cx="287640" cy="1008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105264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27664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052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35772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xing zhong</cp:lastModifiedBy>
  <dcterms:modified xsi:type="dcterms:W3CDTF">2003-11-20T11:36:20Z</dcterms:modified>
  <cp:revision>51</cp:revision>
  <dc:subject/>
  <dc:title>PowerPoint Presentation</dc:title>
</cp:coreProperties>
</file>